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BC1-FEB7-447B-951E-2455B16F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31A-7307-402D-81C7-63BD1A15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24B-F6EB-44F2-9FCE-90539444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75D-06A4-4859-894B-29B5D582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78F-679E-41C8-A790-673851A0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45F-BFB8-477D-B53C-7003202A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5EDC-43BC-4B7F-974B-D124A6B5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C7C-847C-4F8E-878B-6F19E90C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525-AB22-4FF5-B9BF-9B37734C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540-871D-483A-89E6-A7A61E12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6FDB-CB4C-4EDD-BDF0-2942B4BE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E46-B0DF-47C0-89A0-F8972E2C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812F-3B3B-4D3F-9956-2F05B280F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hematical Models:  Construct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3152880"/>
            <a:ext cx="81536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31640" y="475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erimeter of a rectangle is 300 feet.  Express its are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a function of the length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a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75360" y="993600"/>
            <a:ext cx="203508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33520" y="838080"/>
                <a:ext cx="3301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imeter 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622440" y="1320840"/>
                <a:ext cx="1892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628560" y="1778040"/>
                <a:ext cx="1879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−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38120" y="2133720"/>
                <a:ext cx="2222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, Area 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2476440"/>
                <a:ext cx="23878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and s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914400" y="2933640"/>
                <a:ext cx="52070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gives 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as a function of 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219320" y="3809880"/>
          <a:ext cx="670536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9880"/>
                    <a:ext cx="6705360" cy="1135080"/>
                  </a:xfrm>
                  <a:prstGeom prst="rect">
                    <a:avLst/>
                  </a:prstGeom>
                  <a:ln w="2844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429000" y="914400"/>
            <a:ext cx="1981080" cy="77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280" y="133200"/>
            <a:ext cx="8920440" cy="933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04920" y="3303720"/>
            <a:ext cx="8534160" cy="43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28600" y="1600200"/>
            <a:ext cx="888696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2438280" y="2343240"/>
          <a:ext cx="4419720" cy="100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343240"/>
                    <a:ext cx="44197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040" y="76320"/>
            <a:ext cx="896796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3610080"/>
            <a:ext cx="2781360" cy="218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352680" y="1905120"/>
            <a:ext cx="4670640" cy="69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352680" y="914400"/>
            <a:ext cx="1955880" cy="428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338640" y="1419120"/>
            <a:ext cx="2966760" cy="42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581280" y="3809880"/>
            <a:ext cx="503100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581280" y="4648320"/>
            <a:ext cx="5273640" cy="6429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380880" y="914400"/>
            <a:ext cx="6324840" cy="2743200"/>
            <a:chOff x="380880" y="914400"/>
            <a:chExt cx="6324840" cy="2743200"/>
          </a:xfrm>
        </p:grpSpPr>
        <p:sp>
          <p:nvSpPr>
            <p:cNvPr id="68" name=""/>
            <p:cNvSpPr/>
            <p:nvPr/>
          </p:nvSpPr>
          <p:spPr>
            <a:xfrm>
              <a:off x="380880" y="914400"/>
              <a:ext cx="63248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33920" y="914400"/>
              <a:ext cx="761760" cy="27432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5105160" cy="52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52280" y="914400"/>
            <a:ext cx="8991720" cy="12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133720" y="1905120"/>
            <a:ext cx="4857480" cy="19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52280" y="4343400"/>
            <a:ext cx="85345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4496040" cy="60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96696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8600" y="1752480"/>
            <a:ext cx="6620040" cy="1581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486400" y="2209680"/>
            <a:ext cx="3657600" cy="3422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228600" y="350532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819520" y="4653000"/>
            <a:ext cx="28191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8-01-21T09:51:51Z</dcterms:modified>
  <cp:revision>12</cp:revision>
  <dc:subject/>
  <dc:title>Slide 1</dc:title>
</cp:coreProperties>
</file>